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FD54-4530-4BF0-8029-16D977AED3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F70-A64D-422B-8EA9-4C4F72F1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497-E13D-4FCF-8D70-23F7510F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25B-15AF-4577-B2B6-445E4849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7CB7-B85C-46EC-8C0A-45056256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42B-C76D-44B2-9A7E-ED05BD6E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572-C6DE-492B-8B34-7029B706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40B-3A2F-4F38-B3E1-56869BF1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1D5-215D-4BCC-B58C-32A78E87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F4E-7D93-461F-A7E5-C9EDBAC2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664-CEDC-4BAD-9409-45ACECD9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7E3-4D3C-4A0A-B9D2-74312181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779-013E-43A9-BA5F-63AAC442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B2EE-47A7-4516-8874-FDAE71931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Algebr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ddition and Subtraction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1066680" y="457200"/>
            <a:ext cx="7010640" cy="5943600"/>
            <a:chOff x="1066680" y="457200"/>
            <a:chExt cx="7010640" cy="5943600"/>
          </a:xfrm>
        </p:grpSpPr>
        <p:pic>
          <p:nvPicPr>
            <p:cNvPr id="51" name="Object 5" descr=""/>
            <p:cNvPicPr/>
            <p:nvPr/>
          </p:nvPicPr>
          <p:blipFill>
            <a:blip r:embed="rId1"/>
            <a:stretch/>
          </p:blipFill>
          <p:spPr>
            <a:xfrm>
              <a:off x="1143000" y="533520"/>
              <a:ext cx="14428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abacus"/>
            <p:cNvPicPr/>
            <p:nvPr/>
          </p:nvPicPr>
          <p:blipFill>
            <a:blip r:embed="rId2"/>
            <a:stretch/>
          </p:blipFill>
          <p:spPr>
            <a:xfrm>
              <a:off x="6400800" y="4572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BS01099_(p)"/>
            <p:cNvPicPr/>
            <p:nvPr/>
          </p:nvPicPr>
          <p:blipFill>
            <a:blip r:embed="rId3"/>
            <a:stretch/>
          </p:blipFill>
          <p:spPr>
            <a:xfrm>
              <a:off x="1066680" y="487692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j0130271(p)"/>
            <p:cNvPicPr/>
            <p:nvPr/>
          </p:nvPicPr>
          <p:blipFill>
            <a:blip r:embed="rId4"/>
            <a:stretch/>
          </p:blipFill>
          <p:spPr>
            <a:xfrm>
              <a:off x="6248520" y="4648320"/>
              <a:ext cx="17524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5.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2.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.1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.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0.6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5.5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0.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8.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2.9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.4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6.7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.1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.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34:05Z</dcterms:created>
  <dc:creator>staff</dc:creator>
  <dc:description/>
  <dc:language>en-US</dc:language>
  <cp:lastModifiedBy>RomaK</cp:lastModifiedBy>
  <dcterms:modified xsi:type="dcterms:W3CDTF">2015-09-04T07:36:37Z</dcterms:modified>
  <cp:revision>15</cp:revision>
  <dc:subject/>
  <dc:title>Algebra</dc:title>
</cp:coreProperties>
</file>